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F314-3C80-4549-A93D-DA1DE368B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0683-7042-45B7-8234-F4720D7F6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4A97-428C-4943-AA07-D48B0349B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EACD-9436-4E11-BCBF-5544DD2B0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7B3C-58A9-44C4-AC23-A2DA9BDB6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2F2E-6D15-4CA4-97DD-E2B329AC2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75DD-568C-43B5-A8F8-CE1CADC07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C4DF-55DD-4A85-A820-CB77A87D2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A92C-6D04-49AE-B110-25FC8D86D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268B-2C71-4BAB-917B-470E1E483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BF4F-9E47-4C03-BC17-2F4A5F48A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DDCE-43EB-4AB0-B882-A9C024D4E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B217-DB87-4A35-94CE-58E3E3CE6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9196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9196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9196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9196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9196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89196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89196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89196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89196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89196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89196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9196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9196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PPT_intropage_pri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Verdana"/>
              </a:rPr>
              <a:t>Using Data to Observe our </a:t>
            </a:r>
            <a:br>
              <a:rPr sz="2600"/>
            </a:br>
            <a:r>
              <a:rPr b="1" lang="en-US" sz="2600" spc="-1" strike="noStrike">
                <a:solidFill>
                  <a:srgbClr val="ffff66"/>
                </a:solidFill>
                <a:latin typeface="Verdana"/>
              </a:rPr>
              <a:t>Changing Planet</a:t>
            </a:r>
            <a:endParaRPr b="1" lang="en-US" sz="26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716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How the scientific community collects and uses data is chang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he purpose of this activity is to illustrate the difference between discrete (data collected on a periodic basis), versus continuous data (data collected on a very frequent and continuous basis), and how the two types of data can reveal different information or stor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66"/>
                </a:solidFill>
                <a:latin typeface="Verdana"/>
              </a:rPr>
              <a:t>On the Student Worksheet, write a description (frame by frame) of what you think the girl in the pictures is doing.</a:t>
            </a: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10680" y="3505320"/>
            <a:ext cx="8638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Once you complete the descriptio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go to the next slide and watch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video, an example of continuous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Verdana"/>
              </a:rPr>
              <a:t>Now for what really happened…</a:t>
            </a:r>
            <a:br>
              <a:rPr sz="2600"/>
            </a:br>
            <a:r>
              <a:rPr b="0" lang="en-US" sz="2600" spc="-1" strike="noStrike">
                <a:solidFill>
                  <a:srgbClr val="ffff66"/>
                </a:solidFill>
                <a:latin typeface="Verdana"/>
              </a:rPr>
              <a:t> (Continuous Data)</a:t>
            </a:r>
            <a:endParaRPr b="1" lang="en-US" sz="26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7" name="Continuous.avi" descr=""/>
          <p:cNvPicPr/>
          <p:nvPr/>
        </p:nvPicPr>
        <p:blipFill>
          <a:blip r:embed="rId1"/>
          <a:stretch/>
        </p:blipFill>
        <p:spPr>
          <a:xfrm>
            <a:off x="808200" y="1481040"/>
            <a:ext cx="7526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4"/>
          <p:cNvSpPr/>
          <p:nvPr/>
        </p:nvSpPr>
        <p:spPr>
          <a:xfrm>
            <a:off x="251640" y="914400"/>
            <a:ext cx="88675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Write a description of what the gir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actually di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 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Does the story you deduced from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still photographs match what happen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in the vide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4"/>
          <p:cNvSpPr/>
          <p:nvPr/>
        </p:nvSpPr>
        <p:spPr>
          <a:xfrm>
            <a:off x="555840" y="990720"/>
            <a:ext cx="72673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Which method gave you mo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information about what she w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do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             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A. Photograph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                         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              </a:t>
            </a: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B. 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36720" y="1066680"/>
            <a:ext cx="9324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Scientists attempt to interpret ev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and processes that occur in the oce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based on the data available to the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The more data that can be collected 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fill in the unknown gaps, the mo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accurately scientists can interpret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erdana"/>
              </a:rPr>
              <a:t>hidden world of the oce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Verdana"/>
              </a:rPr>
              <a:t>Review the following series of photographs and create a story about what has happened.</a:t>
            </a:r>
            <a:endParaRPr b="1" lang="en-US" sz="3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7" name="Picture 3" descr="Discrete 1"/>
          <p:cNvPicPr/>
          <p:nvPr/>
        </p:nvPicPr>
        <p:blipFill>
          <a:blip r:embed="rId1"/>
          <a:stretch/>
        </p:blipFill>
        <p:spPr>
          <a:xfrm>
            <a:off x="1549440" y="1744560"/>
            <a:ext cx="6045120" cy="4533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7094880" y="6278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iscrete 2"/>
          <p:cNvPicPr/>
          <p:nvPr/>
        </p:nvPicPr>
        <p:blipFill>
          <a:blip r:embed="rId1"/>
          <a:stretch/>
        </p:blipFill>
        <p:spPr>
          <a:xfrm>
            <a:off x="698400" y="609480"/>
            <a:ext cx="7747200" cy="54486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7697880" y="6095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iscrete 5"/>
          <p:cNvPicPr/>
          <p:nvPr/>
        </p:nvPicPr>
        <p:blipFill>
          <a:blip r:embed="rId1"/>
          <a:stretch/>
        </p:blipFill>
        <p:spPr>
          <a:xfrm>
            <a:off x="698400" y="609480"/>
            <a:ext cx="7747200" cy="5448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7697880" y="6095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iscrete 6"/>
          <p:cNvPicPr/>
          <p:nvPr/>
        </p:nvPicPr>
        <p:blipFill>
          <a:blip r:embed="rId1"/>
          <a:stretch/>
        </p:blipFill>
        <p:spPr>
          <a:xfrm>
            <a:off x="698400" y="609480"/>
            <a:ext cx="7747200" cy="54486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7697880" y="6095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iscrete 9"/>
          <p:cNvPicPr/>
          <p:nvPr/>
        </p:nvPicPr>
        <p:blipFill>
          <a:blip r:embed="rId1"/>
          <a:stretch/>
        </p:blipFill>
        <p:spPr>
          <a:xfrm>
            <a:off x="698400" y="609480"/>
            <a:ext cx="7747200" cy="54486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7697880" y="6095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iscrete 10"/>
          <p:cNvPicPr/>
          <p:nvPr/>
        </p:nvPicPr>
        <p:blipFill>
          <a:blip r:embed="rId1"/>
          <a:stretch/>
        </p:blipFill>
        <p:spPr>
          <a:xfrm>
            <a:off x="698400" y="609480"/>
            <a:ext cx="7747200" cy="5448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7697880" y="6095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6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iscrete 12"/>
          <p:cNvPicPr/>
          <p:nvPr/>
        </p:nvPicPr>
        <p:blipFill>
          <a:blip r:embed="rId1"/>
          <a:stretch/>
        </p:blipFill>
        <p:spPr>
          <a:xfrm>
            <a:off x="698400" y="609480"/>
            <a:ext cx="7747200" cy="5448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7697880" y="6095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iscrete 13"/>
          <p:cNvPicPr/>
          <p:nvPr/>
        </p:nvPicPr>
        <p:blipFill>
          <a:blip r:embed="rId1"/>
          <a:stretch/>
        </p:blipFill>
        <p:spPr>
          <a:xfrm>
            <a:off x="698400" y="609480"/>
            <a:ext cx="7747200" cy="5448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7697880" y="6095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28000" y="616284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eturn to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13:18:54Z</dcterms:created>
  <dc:creator>Lab</dc:creator>
  <dc:description/>
  <dc:language>en-US</dc:language>
  <cp:lastModifiedBy>Sage Lichtenwalner</cp:lastModifiedBy>
  <dcterms:modified xsi:type="dcterms:W3CDTF">2010-01-25T21:53:56Z</dcterms:modified>
  <cp:revision>36</cp:revision>
  <dc:subject/>
  <dc:title>Having Fun with Data:  Using COOL Data for Education &amp; Public Outreach (EPO)</dc:title>
</cp:coreProperties>
</file>