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B2C-91B3-4698-8848-3FEA4615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03B-28B8-446E-B8DE-4AAF33F2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59C-10FD-479A-A8C5-B6E5E65E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1A2-BDA6-4298-8443-829EEA1F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61E-D253-418B-9C3B-09ED8D5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3D7-6FEE-432D-AC91-76A0993C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604-6B53-41FB-A9E2-789A3848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5E2-AB9D-45BC-93CB-595A6E1B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7FA-DBE8-4885-970D-DF80EE2B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77E-E39F-4750-8721-52FB1E6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3BE-1685-4376-BBB4-C59CA49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82E-D7AB-47F2-A23D-CD743C2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1ABB-AF97-47AF-9640-C57682B87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 Sc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Based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A Guide to Construction of Materials for Ships, Oceans and Satelli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(S.O.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LSC_logo.jpg"/>
          <p:cNvPicPr/>
          <p:nvPr/>
        </p:nvPicPr>
        <p:blipFill>
          <a:blip r:embed="rId1"/>
          <a:stretch/>
        </p:blipFill>
        <p:spPr>
          <a:xfrm>
            <a:off x="2212920" y="990720"/>
            <a:ext cx="4797360" cy="1228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guide is intended to be used in conjunction with the lesson plan for this le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LSC_logo.jpg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741600"/>
          </a:xfrm>
          <a:prstGeom prst="rect">
            <a:avLst/>
          </a:prstGeom>
          <a:ln w="0">
            <a:noFill/>
          </a:ln>
        </p:spPr>
      </p:pic>
      <p:sp>
        <p:nvSpPr>
          <p:cNvPr id="82" name="Title 5"/>
          <p:cNvSpPr/>
          <p:nvPr/>
        </p:nvSpPr>
        <p:spPr>
          <a:xfrm>
            <a:off x="76320" y="763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s, Oceans, and Satellites (S.O.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04920" y="160020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nterpolation, an SST map similar to this one could be created during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a complete SST like this available to show students to discuss the various assumptions that were used to creat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 bodies of the same temperature are 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emperature changes are observed between points, the range of temperatures in between i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OS_Map.jpg"/>
          <p:cNvPicPr/>
          <p:nvPr/>
        </p:nvPicPr>
        <p:blipFill>
          <a:blip r:embed="rId2"/>
          <a:stretch/>
        </p:blipFill>
        <p:spPr>
          <a:xfrm>
            <a:off x="4514760" y="1295280"/>
            <a:ext cx="4172040" cy="5073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5" name="TextBox 6"/>
          <p:cNvSpPr/>
          <p:nvPr/>
        </p:nvSpPr>
        <p:spPr>
          <a:xfrm>
            <a:off x="4648320" y="1447920"/>
            <a:ext cx="160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O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Y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- Pur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3891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 students to real tim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students with a visual aid when first teaching about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ve students with skills to interpret real time data and false color imag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09480" y="1868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built, the models can be reused.  This lesson is intended for use in informal education set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457200" y="342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85800" y="76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cument is not a lesson plan.  It is intended only to provide instruction for creating the custom models the S.O.S. lesson requ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eded Construction Materials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a class of 30 students make six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28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blocks of stiff foam                    (found in hardware store with home insulation products)                           Cut to size    13” by 16” by 5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pieces of 13” by 16” sized poster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ll of Duct t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ic drill with 5/8” sized bit                                         (use safety goggles and dust mas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/16” Screw Pu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417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rge format lam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9 mL test tube to test 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rge format color printer for 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of circular Velcro faste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or Coastal Map trimmed to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zor knife and replacement bl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te glue to adhere map to poster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SC_logo.jpg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741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s, Oceans, and Satellites (S.O.S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52280" y="157176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tart with a piece of stiff foam that is 13” by 16” and about 5 inches thick: trim and layer foam board sheet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white craft glue to attach foam sheets together if they are lay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 to use 1 board (as prepared above) per 4-5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ver the edges of each foam board with duct tape to prevent students from “picking” at the foam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IMG_2781.jpg"/>
          <p:cNvPicPr/>
          <p:nvPr/>
        </p:nvPicPr>
        <p:blipFill>
          <a:blip r:embed="rId2"/>
          <a:stretch/>
        </p:blipFill>
        <p:spPr>
          <a:xfrm>
            <a:off x="3581280" y="1523880"/>
            <a:ext cx="5372280" cy="3581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4495680" y="5276880"/>
            <a:ext cx="43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 this picture is Styrofoam insulation foam, however polystyrene or polyuretha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y be easier and less messy to work wi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LSC_logo.jpg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741600"/>
          </a:xfrm>
          <a:prstGeom prst="rect">
            <a:avLst/>
          </a:prstGeom>
          <a:ln w="0">
            <a:noFill/>
          </a:ln>
        </p:spPr>
      </p:pic>
      <p:sp>
        <p:nvSpPr>
          <p:cNvPr id="58" name="Title 5"/>
          <p:cNvSpPr/>
          <p:nvPr/>
        </p:nvSpPr>
        <p:spPr>
          <a:xfrm>
            <a:off x="76320" y="763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s, Oceans, and Satellites (S.O.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57200" y="1523880"/>
            <a:ext cx="3429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etch out a 1” by 1” grid on the top of the foam to use as a guide for drilling h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ext step can produce a dust of pulverized foam, wear a dust mask and work in an appropriate area for this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5/8” sized bit to drill evenly spaced holes in the foam through the center of each grid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les should be a depth that can accommodate a 9 mL test tube so that its top rests flush with the top of the fo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_2783.jpg"/>
          <p:cNvPicPr/>
          <p:nvPr/>
        </p:nvPicPr>
        <p:blipFill>
          <a:blip r:embed="rId2"/>
          <a:srcRect l="0" t="13748" r="0" b="6249"/>
          <a:stretch/>
        </p:blipFill>
        <p:spPr>
          <a:xfrm>
            <a:off x="4800600" y="1143000"/>
            <a:ext cx="3987720" cy="4784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4876920" y="604368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 aware that if you use Styrofoam, the drilling will produce bits of highly static sensitive fo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LSC_logo.jpg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741600"/>
          </a:xfrm>
          <a:prstGeom prst="rect">
            <a:avLst/>
          </a:prstGeom>
          <a:ln w="0">
            <a:noFill/>
          </a:ln>
        </p:spPr>
      </p:pic>
      <p:sp>
        <p:nvSpPr>
          <p:cNvPr id="63" name="Title 5"/>
          <p:cNvSpPr/>
          <p:nvPr/>
        </p:nvSpPr>
        <p:spPr>
          <a:xfrm>
            <a:off x="76320" y="763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s, Oceans, and Satellites (S.O.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IMG_2779.jpg"/>
          <p:cNvPicPr/>
          <p:nvPr/>
        </p:nvPicPr>
        <p:blipFill>
          <a:blip r:embed="rId2"/>
          <a:srcRect l="0" t="0" r="0" b="24358"/>
          <a:stretch/>
        </p:blipFill>
        <p:spPr>
          <a:xfrm>
            <a:off x="5105520" y="1676520"/>
            <a:ext cx="3895560" cy="4419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52280" y="1219320"/>
            <a:ext cx="4876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map that fits over the top of the fo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1” by 1” grid on a piece of 13” X 16” poster board (blue color optional) to mirror the grid in the foam holding test tub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a colored map of the coastline, and trim it to just the 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ue the map to the poster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minate the map to make it water resi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sampling holes with 3/16” punch in the center of each grid square.  These holes should be large enough to insert a thin pipette, but not large enough to peek through and see what’s unde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LSC_logo.jpg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741600"/>
          </a:xfrm>
          <a:prstGeom prst="rect">
            <a:avLst/>
          </a:prstGeom>
          <a:ln w="0">
            <a:noFill/>
          </a:ln>
        </p:spPr>
      </p:pic>
      <p:sp>
        <p:nvSpPr>
          <p:cNvPr id="67" name="Title 5"/>
          <p:cNvSpPr/>
          <p:nvPr/>
        </p:nvSpPr>
        <p:spPr>
          <a:xfrm>
            <a:off x="76320" y="763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s, Oceans, and Satellites (S.O.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IMG_2776.jpg"/>
          <p:cNvPicPr/>
          <p:nvPr/>
        </p:nvPicPr>
        <p:blipFill>
          <a:blip r:embed="rId2"/>
          <a:srcRect l="0" t="18332" r="0" b="24168"/>
          <a:stretch/>
        </p:blipFill>
        <p:spPr>
          <a:xfrm>
            <a:off x="4132440" y="1638360"/>
            <a:ext cx="4638600" cy="4000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04920" y="1600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e the map in place with Velcro faste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lesson preparation or cleanup, detach  the map to insert/remove colored test tubes, and then rea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LSC_logo.jpg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741600"/>
          </a:xfrm>
          <a:prstGeom prst="rect">
            <a:avLst/>
          </a:prstGeom>
          <a:ln w="0">
            <a:noFill/>
          </a:ln>
        </p:spPr>
      </p:pic>
      <p:sp>
        <p:nvSpPr>
          <p:cNvPr id="71" name="Title 5"/>
          <p:cNvSpPr/>
          <p:nvPr/>
        </p:nvSpPr>
        <p:spPr>
          <a:xfrm>
            <a:off x="76320" y="763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s, Oceans, and Satellites (S.O.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04920" y="16002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matching map worksheet for students to record their data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a key/scale on the student work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OS_Map.jpg"/>
          <p:cNvPicPr/>
          <p:nvPr/>
        </p:nvPicPr>
        <p:blipFill>
          <a:blip r:embed="rId2"/>
          <a:stretch/>
        </p:blipFill>
        <p:spPr>
          <a:xfrm>
            <a:off x="4514760" y="914400"/>
            <a:ext cx="4172040" cy="507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TextBox 6"/>
          <p:cNvSpPr/>
          <p:nvPr/>
        </p:nvSpPr>
        <p:spPr>
          <a:xfrm>
            <a:off x="4648320" y="1020600"/>
            <a:ext cx="160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O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Y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- Pur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495680" y="6019920"/>
            <a:ext cx="43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State of New Jersey and location of Liberty Science Center is highlighted on our worksheet map to help students orient themsel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LSC_logo.jpg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741600"/>
          </a:xfrm>
          <a:prstGeom prst="rect">
            <a:avLst/>
          </a:prstGeom>
          <a:ln w="0">
            <a:noFill/>
          </a:ln>
        </p:spPr>
      </p:pic>
      <p:sp>
        <p:nvSpPr>
          <p:cNvPr id="77" name="Title 5"/>
          <p:cNvSpPr/>
          <p:nvPr/>
        </p:nvSpPr>
        <p:spPr>
          <a:xfrm>
            <a:off x="76320" y="763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s, Oceans, and Satellites (S.O.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04920" y="1600200"/>
            <a:ext cx="3429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 a reasonable Sea Surface Temperature (SST) data set to use with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example is roughly based off of a mid-September composite for the East Coast sea surface 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mage illustrates the colors of test tubes to be place at each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30 test tubes to potentially sample in this example, which is a course resolution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OS_Map.jpg"/>
          <p:cNvPicPr/>
          <p:nvPr/>
        </p:nvPicPr>
        <p:blipFill>
          <a:blip r:embed="rId2"/>
          <a:stretch/>
        </p:blipFill>
        <p:spPr>
          <a:xfrm>
            <a:off x="4514760" y="1295280"/>
            <a:ext cx="4172040" cy="5073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Box 6"/>
          <p:cNvSpPr/>
          <p:nvPr/>
        </p:nvSpPr>
        <p:spPr>
          <a:xfrm>
            <a:off x="4648320" y="1447920"/>
            <a:ext cx="160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O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Y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–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 - Pur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39:15Z</dcterms:created>
  <dc:creator>kgardner</dc:creator>
  <dc:description/>
  <dc:language>en-US</dc:language>
  <cp:lastModifiedBy>kgardner</cp:lastModifiedBy>
  <dcterms:modified xsi:type="dcterms:W3CDTF">2010-09-30T18:04:23Z</dcterms:modified>
  <cp:revision>40</cp:revision>
  <dc:subject/>
  <dc:title> Data Based Lessons</dc:title>
</cp:coreProperties>
</file>