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2.wmf" ContentType="image/x-wmf"/>
  <Override PartName="/ppt/media/image27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16.wmf" ContentType="image/x-wmf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9f17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DC41-2F40-463E-B6F0-4303D721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87F5-8279-40A4-8770-AD44AE2F9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through the following seven slides with images rather quic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BE08-F5B7-4112-890D-BDDFE748D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54C2-AC2D-4FFE-8A49-CA57E251E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tandard barrel of oil contains 42 gallons or 159 li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world consumes approximately 88 million barrels of oil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United States uses approximately 20 million barrels of oil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United States average consumption is 68.7 barrels a day per 1,000 people (2.9 gallons per day per pers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is estimated that 4.9 million barrels (205.8 million gallons) of oil were released into the Gulf of Mexico from the Deepwater Horizon blowout. That is equal to ¼ of the oil used in the United States each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ttp://www.enopetroleum.com/oilsta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8262-8C21-4D35-8A58-3BEF67ACE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C7CB-D53C-4083-AF2B-8B0639FFF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ansportation 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(cars, trucks, trains, planes, ship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, Heating and Cooking 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(oil, natural g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lastic and Synthetic fiber 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(clothing, nylons, plastic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sonal Care Products 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(cosmetics, deodorant, shampoo, soa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griculture 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(fertilizer, pestic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e just some of the ways we use oil in our l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is estimated that over 6,000 products use oil 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gredients in their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average American driver uses 581 gallons of gas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F265-E6D4-44D2-BC6F-241B088C3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w many objects can you identify that w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otentially made from oil based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DBBE-AA3D-4A02-88A6-5C7CDAD62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D761-2B99-4067-A42B-E52C88066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creasing the amount of oil consumed is important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crease oil imports (money and poli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bat global climate change and re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bon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crease the chances for more oil sp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crease sustainable energ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B7BE-D0B8-4B3C-9B57-B47625C6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crease fuel consumption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se from oil to natur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crease amounts of plastic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elect personal care products without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re efficient heating and electricit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re efficient agricultur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rive less, use hybrid/electric veh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crease fuel consumption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se from oil to natur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crease amounts of plastic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elect personal care products without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re efficient heating and electricit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re efficient agricultur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rive less, use hybrid/electric veh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6929-61CA-4386-A8D2-28D19CF4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C591-2C8D-4698-B490-CA0E9A396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w many objects can you identify that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uld either do without or consider an altern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duct that is not made from oil based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9B3C-086F-4B46-9A1F-9B9C3538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7D76-3D0C-4DA8-B938-566F8917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is our individual responsibility to consi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reduce the amount of oil and o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ased products we use on a daily basi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to encourage others to do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6AE8-EFA2-4945-AB4E-7B108B242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3277-4AAC-469C-8C7C-F4674C2E3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4172-E6E5-43D2-8C1D-E9C050597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E255-D33B-4A3F-8689-9BF61E313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77EC-3887-4CBD-B3F4-2B7A651C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C12D-F813-4C5E-8432-8F3EDCEAA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1BC5-28C3-42CE-9B47-9BF17502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B7C7-6518-4365-B205-18F81A224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AF93-AFD2-44F5-98C7-3C3C172AF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A502-55D4-4F7E-B389-E8D3279E6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9911-D6FB-4326-9595-D396D5FA4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E3A9-C1CF-46B6-A077-C1F1C48D8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71AC-0CF0-4A61-BC97-5587C8AA1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87F0-3B7A-425A-AC0F-4E223B49C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3045-E271-4E49-AF68-6DF32DAFD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5FFD-1F53-4ED9-99A9-21D34BE9B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C3D0-88A7-428C-B6E4-E00581BC0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C548-4995-4C98-8FA7-02DAA4AC3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A6EA-F510-468A-B73A-CC9DE53F3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9f17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4663-EEE9-4439-9D4D-564A15B261FC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4876920" y="98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rmataBQ-Regular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Object 12"/>
          <p:cNvGraphicFramePr/>
          <p:nvPr/>
        </p:nvGraphicFramePr>
        <p:xfrm>
          <a:off x="8083440" y="5486400"/>
          <a:ext cx="106056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83440" y="5486400"/>
                    <a:ext cx="10605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"/>
          <p:cNvSpPr/>
          <p:nvPr/>
        </p:nvSpPr>
        <p:spPr>
          <a:xfrm>
            <a:off x="4876920" y="98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rmataBQ-Regular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12"/>
          <p:cNvGraphicFramePr/>
          <p:nvPr/>
        </p:nvGraphicFramePr>
        <p:xfrm>
          <a:off x="8083440" y="5486400"/>
          <a:ext cx="106056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83440" y="5486400"/>
                    <a:ext cx="10605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8" descr="PPT_intropage_print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9f17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image" Target="../media/image11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gasoline.jpg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5364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750920" y="6002280"/>
            <a:ext cx="327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planettran.files.wordpress.com/2008/12/gasolin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693800" y="2133720"/>
            <a:ext cx="58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ll of the products conta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il based ingredi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C:\Users\rutgers\AppData\Local\Microsoft\Windows\Temporary Internet Files\Content.IE5\K9WTSV69\MC900082283[1].wmf"/>
          <p:cNvPicPr/>
          <p:nvPr/>
        </p:nvPicPr>
        <p:blipFill>
          <a:blip r:embed="rId1"/>
          <a:stretch/>
        </p:blipFill>
        <p:spPr>
          <a:xfrm>
            <a:off x="3809880" y="3809880"/>
            <a:ext cx="18036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533520" y="378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Oil in Our L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2"/>
          <p:cNvSpPr/>
          <p:nvPr/>
        </p:nvSpPr>
        <p:spPr>
          <a:xfrm>
            <a:off x="1219320" y="1752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we need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936800" y="3152880"/>
            <a:ext cx="5226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600200" y="1017720"/>
            <a:ext cx="1062000" cy="1641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"/>
          <p:cNvPicPr/>
          <p:nvPr/>
        </p:nvPicPr>
        <p:blipFill>
          <a:blip r:embed="rId2"/>
          <a:stretch/>
        </p:blipFill>
        <p:spPr>
          <a:xfrm>
            <a:off x="6991200" y="1017720"/>
            <a:ext cx="908280" cy="13366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4"/>
          <p:cNvSpPr/>
          <p:nvPr/>
        </p:nvSpPr>
        <p:spPr>
          <a:xfrm>
            <a:off x="4871880" y="135252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42 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8"/>
          <p:cNvSpPr/>
          <p:nvPr/>
        </p:nvSpPr>
        <p:spPr>
          <a:xfrm>
            <a:off x="4019400" y="1477800"/>
            <a:ext cx="31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0"/>
          <p:cNvSpPr/>
          <p:nvPr/>
        </p:nvSpPr>
        <p:spPr>
          <a:xfrm>
            <a:off x="4627440" y="3424320"/>
            <a:ext cx="22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88 m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3"/>
          <p:cNvSpPr/>
          <p:nvPr/>
        </p:nvSpPr>
        <p:spPr>
          <a:xfrm>
            <a:off x="4040280" y="3592440"/>
            <a:ext cx="3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4"/>
          <p:cNvSpPr/>
          <p:nvPr/>
        </p:nvSpPr>
        <p:spPr>
          <a:xfrm>
            <a:off x="96840" y="3606840"/>
            <a:ext cx="41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orld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(per 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0" descr=""/>
          <p:cNvPicPr/>
          <p:nvPr/>
        </p:nvPicPr>
        <p:blipFill>
          <a:blip r:embed="rId3"/>
          <a:stretch/>
        </p:blipFill>
        <p:spPr>
          <a:xfrm>
            <a:off x="6858000" y="3106800"/>
            <a:ext cx="1062000" cy="1641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1" descr=""/>
          <p:cNvPicPr/>
          <p:nvPr/>
        </p:nvPicPr>
        <p:blipFill>
          <a:blip r:embed="rId4"/>
          <a:stretch/>
        </p:blipFill>
        <p:spPr>
          <a:xfrm>
            <a:off x="6837480" y="5078520"/>
            <a:ext cx="1062000" cy="1641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2"/>
          <p:cNvSpPr/>
          <p:nvPr/>
        </p:nvSpPr>
        <p:spPr>
          <a:xfrm>
            <a:off x="3520800" y="22860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Oil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3"/>
          <p:cNvSpPr/>
          <p:nvPr/>
        </p:nvSpPr>
        <p:spPr>
          <a:xfrm>
            <a:off x="6542280" y="2430360"/>
            <a:ext cx="16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1 gallon of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4"/>
          <p:cNvSpPr/>
          <p:nvPr/>
        </p:nvSpPr>
        <p:spPr>
          <a:xfrm>
            <a:off x="1305360" y="243036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1 barrel of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6"/>
          <p:cNvSpPr/>
          <p:nvPr/>
        </p:nvSpPr>
        <p:spPr>
          <a:xfrm>
            <a:off x="4648320" y="539604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0 m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7"/>
          <p:cNvSpPr/>
          <p:nvPr/>
        </p:nvSpPr>
        <p:spPr>
          <a:xfrm>
            <a:off x="4040280" y="5562720"/>
            <a:ext cx="3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8"/>
          <p:cNvSpPr/>
          <p:nvPr/>
        </p:nvSpPr>
        <p:spPr>
          <a:xfrm>
            <a:off x="96840" y="5396040"/>
            <a:ext cx="41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US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(per 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740160" y="609480"/>
            <a:ext cx="808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ow We Use Oil and Petroleum Produc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2514600" y="1447920"/>
            <a:ext cx="441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wer, Heating and Co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lastic and Synthetic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onal Car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380880" y="4038480"/>
            <a:ext cx="8305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ver 6,000 products use oil based ingredients in their produc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verage American uses 581 gallons of gas per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:\Users\rutgers\AppData\Local\Microsoft\Windows\Temporary Internet Files\Content.IE5\K9WTSV69\MC900030369[1].wmf"/>
          <p:cNvPicPr/>
          <p:nvPr/>
        </p:nvPicPr>
        <p:blipFill>
          <a:blip r:embed="rId1"/>
          <a:stretch/>
        </p:blipFill>
        <p:spPr>
          <a:xfrm>
            <a:off x="7315200" y="2590920"/>
            <a:ext cx="1228680" cy="83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Users\rutgers\AppData\Local\Microsoft\Windows\Temporary Internet Files\Content.IE5\2ZTXU37B\MC900320932[1].wmf"/>
          <p:cNvPicPr/>
          <p:nvPr/>
        </p:nvPicPr>
        <p:blipFill>
          <a:blip r:embed="rId2"/>
          <a:stretch/>
        </p:blipFill>
        <p:spPr>
          <a:xfrm>
            <a:off x="380880" y="1801800"/>
            <a:ext cx="1809720" cy="546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Users\rutgers\AppData\Local\Microsoft\Windows\Temporary Internet Files\Content.IE5\ARY2DT7E\MC900361202[1].wmf"/>
          <p:cNvPicPr/>
          <p:nvPr/>
        </p:nvPicPr>
        <p:blipFill>
          <a:blip r:embed="rId3"/>
          <a:stretch/>
        </p:blipFill>
        <p:spPr>
          <a:xfrm>
            <a:off x="3733920" y="5824440"/>
            <a:ext cx="137160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1169640" y="1523880"/>
            <a:ext cx="66045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Look around you right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ow many objects can you identify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de from oil based ingredi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C:\Users\rutgers\AppData\Local\Microsoft\Windows\Temporary Internet Files\Content.IE5\3A7Q3WA8\MC900334966[1].wmf"/>
          <p:cNvPicPr/>
          <p:nvPr/>
        </p:nvPicPr>
        <p:blipFill>
          <a:blip r:embed="rId1"/>
          <a:stretch/>
        </p:blipFill>
        <p:spPr>
          <a:xfrm>
            <a:off x="4124160" y="4800600"/>
            <a:ext cx="7430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885680" y="1981080"/>
            <a:ext cx="54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Oil In Our Lives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Decrea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Amount of Oil We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3886200" y="4495680"/>
            <a:ext cx="1752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152280" y="609480"/>
            <a:ext cx="86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y is it Important to Decrease the Amount of Oil Consum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006640" y="1752480"/>
            <a:ext cx="576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rease oil 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bat global climate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uce carbon 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rease chance of oil sp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 sustainable energy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914400" y="4400640"/>
            <a:ext cx="1600200" cy="1606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6324480" y="4400640"/>
            <a:ext cx="1817640" cy="152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C:\Users\rutgers\AppData\Local\Microsoft\Windows\Temporary Internet Files\Content.IE5\K9WTSV69\MC900030183[1].wmf"/>
          <p:cNvPicPr/>
          <p:nvPr/>
        </p:nvPicPr>
        <p:blipFill>
          <a:blip r:embed="rId3"/>
          <a:stretch/>
        </p:blipFill>
        <p:spPr>
          <a:xfrm>
            <a:off x="3581280" y="4400640"/>
            <a:ext cx="1521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854280" y="457200"/>
            <a:ext cx="69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ays to Decrease Oil Consump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1328040" y="1523880"/>
            <a:ext cx="6352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fuel consumptio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ternative energy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se from oil to 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crease amounts of plastic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438280" y="4562640"/>
            <a:ext cx="396252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ays to Decrease Oil Consumption:</a:t>
            </a:r>
            <a:endParaRPr b="1" lang="en-US" sz="36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99840" y="152352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lect products without o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efficient heating and electricity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efficient agriculture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ive less, use hybrid/electric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rcRect l="0" t="0" r="31364" b="0"/>
          <a:stretch/>
        </p:blipFill>
        <p:spPr>
          <a:xfrm>
            <a:off x="3429000" y="4127400"/>
            <a:ext cx="1919160" cy="181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6172200" y="4127400"/>
            <a:ext cx="1816200" cy="1816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646200" y="1676520"/>
            <a:ext cx="7953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Look around you right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ow many oil based objects can you do with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n you consider an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that is not made from oil based ingredi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:\Users\rutgers\AppData\Local\Microsoft\Windows\Temporary Internet Files\Content.IE5\ARY2DT7E\MC900053962[1].wmf"/>
          <p:cNvPicPr/>
          <p:nvPr/>
        </p:nvPicPr>
        <p:blipFill>
          <a:blip r:embed="rId1"/>
          <a:stretch/>
        </p:blipFill>
        <p:spPr>
          <a:xfrm>
            <a:off x="4191120" y="52704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lip-flops.jpg"/>
          <p:cNvPicPr/>
          <p:nvPr/>
        </p:nvPicPr>
        <p:blipFill>
          <a:blip r:embed="rId1"/>
          <a:stretch/>
        </p:blipFill>
        <p:spPr>
          <a:xfrm>
            <a:off x="1600200" y="304920"/>
            <a:ext cx="6060960" cy="5790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2923200" y="6276960"/>
            <a:ext cx="470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sz-wholesale.com/uploadFiles/upimg6/EVA-flip-flops-----------------20838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489960" y="990720"/>
            <a:ext cx="86738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 is our </a:t>
            </a: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responsibility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to reduce the amou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f oil we use on a daily bas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nd to </a:t>
            </a: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encourag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others to do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health of our planet lies in our choic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038480" y="29718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lastic_Bag.png"/>
          <p:cNvPicPr/>
          <p:nvPr/>
        </p:nvPicPr>
        <p:blipFill>
          <a:blip r:embed="rId1"/>
          <a:stretch/>
        </p:blipFill>
        <p:spPr>
          <a:xfrm>
            <a:off x="2362320" y="228600"/>
            <a:ext cx="4340160" cy="6080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1714320" y="6446880"/>
            <a:ext cx="539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olympicplastic.com/Shopping_Bags_Custom_Plastic_Bag_Manufacturer_Wholesaler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Lipstick.jpg"/>
          <p:cNvPicPr/>
          <p:nvPr/>
        </p:nvPicPr>
        <p:blipFill>
          <a:blip r:embed="rId1"/>
          <a:stretch/>
        </p:blipFill>
        <p:spPr>
          <a:xfrm>
            <a:off x="1398600" y="306360"/>
            <a:ext cx="6324480" cy="5999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3298320" y="6400800"/>
            <a:ext cx="29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mypowderpuff.co.uk/images/Lipstick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awn_dishwashing_liquid.jpg"/>
          <p:cNvPicPr/>
          <p:nvPr/>
        </p:nvPicPr>
        <p:blipFill>
          <a:blip r:embed="rId1"/>
          <a:stretch/>
        </p:blipFill>
        <p:spPr>
          <a:xfrm>
            <a:off x="1676520" y="345960"/>
            <a:ext cx="5790960" cy="57913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1417680" y="6324480"/>
            <a:ext cx="638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greenlightoffice.com/office/stationery/819298314-p-g-dawn-dishwashing-liquid-liquid-solution-38fl-oz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rayons.jpg"/>
          <p:cNvPicPr/>
          <p:nvPr/>
        </p:nvPicPr>
        <p:blipFill>
          <a:blip r:embed="rId1"/>
          <a:stretch/>
        </p:blipFill>
        <p:spPr>
          <a:xfrm>
            <a:off x="1030320" y="317520"/>
            <a:ext cx="7086600" cy="566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3966840" y="6200640"/>
            <a:ext cx="412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mackenzieland.com/uploaded_images/crayons_box-721146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D-DVD.jpg"/>
          <p:cNvPicPr/>
          <p:nvPr/>
        </p:nvPicPr>
        <p:blipFill>
          <a:blip r:embed="rId1"/>
          <a:stretch/>
        </p:blipFill>
        <p:spPr>
          <a:xfrm>
            <a:off x="1600200" y="304920"/>
            <a:ext cx="6172200" cy="55958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2920680" y="6154560"/>
            <a:ext cx="34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artik.com/Images/CDROMs/CD-DVD-Replica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tuffed-animals.jpg"/>
          <p:cNvPicPr/>
          <p:nvPr/>
        </p:nvPicPr>
        <p:blipFill>
          <a:blip r:embed="rId1"/>
          <a:stretch/>
        </p:blipFill>
        <p:spPr>
          <a:xfrm>
            <a:off x="457200" y="457200"/>
            <a:ext cx="7856640" cy="55627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3375720" y="6200640"/>
            <a:ext cx="284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edupics.com/stuffed-animals-t752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537480" y="533520"/>
            <a:ext cx="82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do these products have in comm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gasoline.jpg"/>
          <p:cNvPicPr/>
          <p:nvPr/>
        </p:nvPicPr>
        <p:blipFill>
          <a:blip r:embed="rId1"/>
          <a:stretch/>
        </p:blipFill>
        <p:spPr>
          <a:xfrm>
            <a:off x="298440" y="1981080"/>
            <a:ext cx="2292480" cy="152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flip-flops.jpg"/>
          <p:cNvPicPr/>
          <p:nvPr/>
        </p:nvPicPr>
        <p:blipFill>
          <a:blip r:embed="rId2"/>
          <a:stretch/>
        </p:blipFill>
        <p:spPr>
          <a:xfrm>
            <a:off x="3011400" y="1801800"/>
            <a:ext cx="1898640" cy="181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lastic_Bag.png"/>
          <p:cNvPicPr/>
          <p:nvPr/>
        </p:nvPicPr>
        <p:blipFill>
          <a:blip r:embed="rId3"/>
          <a:stretch/>
        </p:blipFill>
        <p:spPr>
          <a:xfrm>
            <a:off x="5486400" y="1650960"/>
            <a:ext cx="1447920" cy="202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CD-DVD.jpg"/>
          <p:cNvPicPr/>
          <p:nvPr/>
        </p:nvPicPr>
        <p:blipFill>
          <a:blip r:embed="rId4"/>
          <a:stretch/>
        </p:blipFill>
        <p:spPr>
          <a:xfrm>
            <a:off x="298440" y="4038480"/>
            <a:ext cx="1835280" cy="1663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Lipstick.jpg"/>
          <p:cNvPicPr/>
          <p:nvPr/>
        </p:nvPicPr>
        <p:blipFill>
          <a:blip r:embed="rId5"/>
          <a:stretch/>
        </p:blipFill>
        <p:spPr>
          <a:xfrm>
            <a:off x="7226280" y="1801800"/>
            <a:ext cx="17654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stuffed-animals.jpg"/>
          <p:cNvPicPr/>
          <p:nvPr/>
        </p:nvPicPr>
        <p:blipFill>
          <a:blip r:embed="rId6"/>
          <a:stretch/>
        </p:blipFill>
        <p:spPr>
          <a:xfrm>
            <a:off x="7086600" y="40384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dawn_dishwashing_liquid.jpg"/>
          <p:cNvPicPr/>
          <p:nvPr/>
        </p:nvPicPr>
        <p:blipFill>
          <a:blip r:embed="rId7"/>
          <a:stretch/>
        </p:blipFill>
        <p:spPr>
          <a:xfrm>
            <a:off x="4910040" y="4038480"/>
            <a:ext cx="179568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crayons.jpg"/>
          <p:cNvPicPr/>
          <p:nvPr/>
        </p:nvPicPr>
        <p:blipFill>
          <a:blip r:embed="rId8"/>
          <a:stretch/>
        </p:blipFill>
        <p:spPr>
          <a:xfrm>
            <a:off x="2590920" y="403848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8:04:02Z</dcterms:created>
  <dc:creator>Sage Lichtenwalner</dc:creator>
  <dc:description/>
  <dc:language>en-US</dc:language>
  <cp:lastModifiedBy>Carrie Ferraro</cp:lastModifiedBy>
  <dcterms:modified xsi:type="dcterms:W3CDTF">2010-08-31T19:36:58Z</dcterms:modified>
  <cp:revision>98</cp:revision>
  <dc:subject/>
  <dc:title>PowerPoint Presentation</dc:title>
</cp:coreProperties>
</file>