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9f17f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f9f17f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D9676-8F71-41FE-AD95-F4A8A0290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glossary.oilfield.slb.com/DisplayImage.cfm?ID=6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9F9FC-A90D-47EB-B680-813AE3D08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E5894-9B36-4290-8C44-C227BDA5C1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9f17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83240"/>
            <a:ext cx="82296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04C59-3984-4310-A070-B9B9E5DCAF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9f17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83240"/>
            <a:ext cx="40158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83240"/>
            <a:ext cx="40158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990FD-6AB8-4856-B974-5FC3C0D55A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9f17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83240"/>
            <a:ext cx="26496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83240"/>
            <a:ext cx="26496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83240"/>
            <a:ext cx="26496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5CA29-6B5C-41E5-AAA0-4C215B3684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9f17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9f17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76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9f17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476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476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9f17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04920"/>
            <a:ext cx="8229600" cy="37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9f17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476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783240"/>
            <a:ext cx="40158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9f17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889A6-011B-4446-BE12-E58136A64B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9f17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476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783240"/>
            <a:ext cx="40158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9f17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240"/>
            <a:ext cx="82296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9f17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783240"/>
            <a:ext cx="82296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9f17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783240"/>
            <a:ext cx="40158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783240"/>
            <a:ext cx="40158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9f17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783240"/>
            <a:ext cx="26496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783240"/>
            <a:ext cx="26496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783240"/>
            <a:ext cx="26496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9f17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76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A8169-A687-401C-9AFC-9AB4DBEF15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9f17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476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476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AB9A6-2540-42F3-8666-99524C4DA2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9f17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7334F-9F8B-496E-8E65-B70E5451FB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304920"/>
            <a:ext cx="8229600" cy="37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89504-C766-40E2-A850-BA563020CF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9f17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476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83240"/>
            <a:ext cx="40158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D55FB-82FE-4D00-A518-B05C249D39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9f17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476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83240"/>
            <a:ext cx="40158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3BD98-5039-473B-BBC9-93DBF12F09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9f17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3240"/>
            <a:ext cx="82296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BBFD5-C29B-4FC8-8A14-5695CD7320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40b"/>
            </a:gs>
            <a:gs pos="100000">
              <a:srgbClr val="0637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9f17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f9f17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476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6C99F-451E-48D9-A848-7D474FD92739}" type="slidenum">
              <a:rPr b="0" lang="en-US" sz="14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0"/>
          <p:cNvSpPr/>
          <p:nvPr/>
        </p:nvSpPr>
        <p:spPr>
          <a:xfrm>
            <a:off x="4876920" y="9828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rmataBQ-Regular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" name="Object 12"/>
          <p:cNvGraphicFramePr/>
          <p:nvPr/>
        </p:nvGraphicFramePr>
        <p:xfrm>
          <a:off x="8083440" y="5486400"/>
          <a:ext cx="1060560" cy="1371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83440" y="5486400"/>
                    <a:ext cx="10605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761"/>
            </a:gs>
            <a:gs pos="100000">
              <a:srgbClr val="0c102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8" descr="PPT_intropage_prin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9f17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f9f17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476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40b"/>
            </a:gs>
            <a:gs pos="100000">
              <a:srgbClr val="0637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Help from ROVs” is under construction. We apologize for any inconvenience and hope to have it posted ASAP.</a:t>
            </a:r>
            <a:endParaRPr b="1" lang="en-US" sz="2800" spc="-1" strike="noStrike">
              <a:solidFill>
                <a:srgbClr val="f9f17f"/>
              </a:solidFill>
              <a:latin typeface="Verdana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3362400" y="2514600"/>
            <a:ext cx="2419200" cy="36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14:47:46Z</dcterms:created>
  <dc:creator>Sage Lichtenwalner</dc:creator>
  <dc:description/>
  <dc:language>en-US</dc:language>
  <cp:lastModifiedBy>Carrie Ferraro</cp:lastModifiedBy>
  <dcterms:modified xsi:type="dcterms:W3CDTF">2010-09-07T17:03:47Z</dcterms:modified>
  <cp:revision>88</cp:revision>
  <dc:subject/>
  <dc:title>PowerPoint Presentation</dc:title>
</cp:coreProperties>
</file>