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8B1-6F74-436B-B050-2F6EA51AE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03FE-9F6E-40FA-964A-B35399D9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C046-AA5E-4236-B278-5529EBE3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DE4-FD20-4DCB-811F-BE6813EAB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BT Summer,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Off the coast of Angol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80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ile en route to Rotterdam, the fully loaded tanker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ABT Summ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erienced an explo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board and caught fire while it was 900 miles off the coast of Angola, leaking its paylo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o the ocean. 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rrounded by a growing oil slick that spanned 80 square miles, the tanker burned for thr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ays before sinking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ile no one can say how much of the oil sank or burned off, most of the oil is thought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ave been broken up by high seas at little environmental cost, thanks to the incident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ffshor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9510-2495-4823-A971-5700485C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EEC-88B5-448E-AEE7-92596B79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3A08-700E-42DE-9623-4E2C3D45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ECBD-E676-48F2-9D3C-88DB5733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B87-23CA-435F-81F4-441172D4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9583-AA7D-4DAF-81FF-9B39BACF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tlantic Empress, 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Trinidad and Tobago, West Indi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88.3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On July 1979, two full supertankers collided off the coast of Tobago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bbean Sea, precipitating the largest ship-sourced oil spill in history.  Crippled by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ident, both vessels began to leak their crude and caught fire. The fire on one of the vesse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Aegean Captain,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was soon controlled, and the damaged vessel was  towed to Curaca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re its remaining cargo was recovered. 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ther tanker, the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Atlantic Empress,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stubbornly ablaze, was towed farther out to sea un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exploded 300 nautical miles offshore. 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told, 26 crew were killed in the disaster and nearly 90 million gallons of crude was du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o the sea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The response to the incident included firefighting efforts and the us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spersants to treat the oil that spilled over the course of the accident and then while th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Atlantic Empress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was towed away. Luckily, only minor shore pollution was reported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arby isl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90CE-FC2B-4EC5-BEDB-A7D586AF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8BC5-1333-46AC-81ED-9716814D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xtoc 1 Oil Well, 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Bay of Campeche, Mexico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140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June 1979, an oil well in the Bay of Campeche collapsed after a pressure buildup spar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 accidental explosion. Over the next 10 months about 140 million gallons of crude spou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o the Gulf of Mexico from the damaged oil well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slow down the flow of oil from the damaged well, mud and later steel, iro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ad balls were dropped down its shaft. According to PEMEX (Mexican Petroleum), hal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burned when it reached the surface and a third evaporated. PEMEX also hired a comp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 spray dispersants over 1100 square miles of oil slick. Dispersants effectively act like d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ap, breaking up oil so that more of it can mix into the water. That way, they can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ffect of the oil slick on shorelines. On the Texas side of the gulf, skimmers and boom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re placed in the water to protect the bays and lagoons of the Barrier Isl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C6A5-75E7-46AA-9BBE-641D1B753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ympic pool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-- 164 feet or 50 meters 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th -- 84 feet or 25 meters 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th -- at least 6 feet 7 inches or 2.0 meters 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-- At least 660,000 gallons or 2,500,000 liters, but varies depending on the depth of th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how many Olympic pools this oil spill would fill – answer 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treehugger.com/olympic-swimming-pool-in-beijing-chi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D90E-A6E5-4FE0-8992-273B4799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D30-0A26-4FEE-A2A8-6F7F89DD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epwater Horizon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Gulf of Mexico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206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 April, 20, 2010, the Deepwater Horizon drilling rig exploded due to a methane gas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m the well, immediately killing 11 and injuring 17 platform workers. The vessel burned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most two days and sank. The open well continued to leak oil into the Gulf until July 15, 2010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s of August 2010, the clean up efforts are still underway. Approximately 75% of the oil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naccounted for. By July 30, more than 1.8 million gallons of dispersant were released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Gulf. By June 28, BP removed 890,00 barrels of oil liquid and burned about 31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arrels of oil. It is believed a large amount of the missing oil is lingering in subsurface laye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Gu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lean up effort will continue for man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1E22-795F-4917-916C-EB9C796E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0632-6247-4EA2-84D4-25EBAACC0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ulf War, 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 Kuwai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 240 to 336 million 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s Iraqi forces retreated from Kuwait during the first Gulf War, they opened the val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f oil wells and pipelines in a bid to slow the onslaught of American troops. The resul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as the largest oil spill history has seen. Some 240 million gallons of crude oil flow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to the Persian Gulf. The resulting oil slick spanned an area just larger than the siz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island of Hawaii. 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alition forces managed to seal off some of the open pipelines using smart bombs, b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ost recovery efforts had to wait until after the war. At that point 25 miles of boo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orange ropelike products that contain the oil that is floating on top of the water) and 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kimmers (machines that separate oil from water) were deployed in the gulf, mostly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rotect the water intakes of desalinization, industry and power plants. Together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vacuum trucks, about 58.8 million gallons of oil was recovered from the Gulf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0E7E-C33A-47DA-A1CB-00745636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/T Haven Tanker,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Genoa, Italy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42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 ill-maintained tanker exploded and later sunk off the coast of Italy.  The accident ki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people. 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ediately after the incident, an effort by the Italians to tow the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Have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 shore failed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820-foot-long (250 meter) vessel sunk off the coast of Genoa. Today it is believed to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rgest shipwreck in the world and is a popular tourist destination for divers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ediately after the incident Italian authorities scrambled to fight the fire and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read of the spillage using six miles of inflatable barriers that were submerged below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surface around the vessel. The rest of the surface oil was sucked up using vacuu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1FBD-AEE7-4C24-973D-E4D428BC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0C35-FCF3-487F-8500-E33DB627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Odyssey Oil Spill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700 nautical miles off the coast of Nova Scotia, Canada 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43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November 1988 the Liberian tanker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Odyssey,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virtually full to the brim with North 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rude oil, broke in two and sunk in the North Atlantic 700 miles off the coast of Nova Scot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also caught fire as it sunk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cause the incident took place so far from the coastline, the oil was expected to dissip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urally and no clean up response was cond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781F-138D-4105-817C-AC0BF696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30C4-40FC-4DCC-85F3-A181D19E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moco Cadiz, 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Off Brittany, Franc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68.7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tanker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Amoco Cadiz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ran aground off the coast of Brittany after its steering failed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evere storm. Its entire cargo of 246,000 tons of light crude oil was dumped into the r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s of the English Channel, with the grim consequence of killing off more marine lif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y other oil spill at the time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up efforts were foiled by strong winds and heavy seas and less than 3300 ton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spersants were used. Within a month of the spill, 200 miles of the French shoreli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taminated with oil. Vacuum trucks and agricultural vacuum units were used to suck 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of the oil, although a lot of it was simply removed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F13-70D6-4099-B558-BDC53B87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AC0-E5FF-44C2-BE37-C002D0BB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astillo de Bellver, 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cation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Off Saldanha Bay, South Afric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allons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78.5 million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It Happened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 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Castillo de Bellver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caught fire about 70 miles northwest of Capetown,  South Africa,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ugust 6, 1983. The blazing tanker was abandoned and drifted offshore  until it eventu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oke in half. The stern capsized and sank into the deep ocean, with some  110,000 t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remaining in its tanks. The bow section was sunk in a controlled explosion. 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vessel was carrying nearly 79 million gallons of crude at the time of the accident. 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leanup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up was minimal. There was some dispersant spraying, but by and larg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nvironmental consequences were small. About 1500 gannets that happened to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thered on a nearby island, gearing up for their breeding season, were oiled, b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pact on local fish stocks was mi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5966-03A1-412F-8F57-32793D6FE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372F-E0C4-4B86-A065-03EC87C5A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810C-E1EE-48F6-9974-E42AA946F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700C-F1C2-47DE-A83F-A4F1DE25A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772B-706B-4528-85A4-F74708F45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1897-2E1E-4CDA-8EA0-4FD27E534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CD9F-E9B2-4DB7-A3C2-4E6BEF057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43A1-1272-4F56-B8A3-2C9CFD4CC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B52C-5A74-4E66-8832-AEE0F3CE4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7691-D58C-4D96-ADD9-6525C7372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D821-2796-4C77-9A83-702E1DECB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324C-F99F-42BB-B7A8-920105A10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E7A1-D383-4729-BF9D-4625EBF9460B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4876920" y="98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rmataBQ-Regular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12"/>
          <p:cNvGraphicFramePr/>
          <p:nvPr/>
        </p:nvGraphicFramePr>
        <p:xfrm>
          <a:off x="8083440" y="5486400"/>
          <a:ext cx="10605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83440" y="5486400"/>
                    <a:ext cx="1060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761"/>
            </a:gs>
            <a:gs pos="100000">
              <a:srgbClr val="0c10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T_intropage_pr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-603000" y="1379520"/>
            <a:ext cx="92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erlin Sans FB Demi"/>
              </a:rPr>
              <a:t>11 Biggest Oil Spills in Hi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383920" y="49640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y Anne Casselman writing for Popular Mech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56320" y="5334120"/>
            <a:ext cx="86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popularmechanics.com/science/energy/coal-oil-gas/biggest-oil-spills-in-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971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ABTSummer_500_0510-lg.jpg"/>
          <p:cNvPicPr/>
          <p:nvPr/>
        </p:nvPicPr>
        <p:blipFill>
          <a:blip r:embed="rId1"/>
          <a:stretch/>
        </p:blipFill>
        <p:spPr>
          <a:xfrm>
            <a:off x="86364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908000" y="6095880"/>
            <a:ext cx="53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TERJE RAKKE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7560" y="152280"/>
            <a:ext cx="2637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ABT Summer,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3000" y="228600"/>
            <a:ext cx="89056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7 - ABT Summer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Off the coast of Angola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80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ile en route to Rotterdam, the fully loaded tanker,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BT Summer,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erienced an explo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board and caught fire while it was 900 miles off the coast of Angola, leaking its pay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o the ocean. Surrounded by a growing oil slick that spanned 80 square miles, the tan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rned for 3 days before sinking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ile no one can say how much of the oil sank or burned off, most of the oil is th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ve been broken up by high seas at little environmental cost, thanks to the inciden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fshore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owruzOilSpill_500_0510-lg.jpg"/>
          <p:cNvPicPr/>
          <p:nvPr/>
        </p:nvPicPr>
        <p:blipFill>
          <a:blip r:embed="rId1"/>
          <a:stretch/>
        </p:blipFill>
        <p:spPr>
          <a:xfrm>
            <a:off x="760320" y="552600"/>
            <a:ext cx="7443720" cy="55832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2056320" y="6173640"/>
            <a:ext cx="552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TOM STODDART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0492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6 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- Nowruz Oil Field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353160" y="380880"/>
            <a:ext cx="87930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6 - Nowruz Oil Field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Persian Gulf 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80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uring the Iran-Iraq War, an oil tanker crashed into the Nowruz Field Platform in the Pers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lf and knocked it askew, damaging the well underneath. The oil well then leaked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0 barrels a day, but because it was in the center of a war zone, seven months went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fore it was fixed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rpol, a Norwegian company, used booms and skimmers to stem the spread of 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FerganaValley_500_0510-lg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833840" y="6173640"/>
            <a:ext cx="548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IMAGE SOURCE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37880" y="15228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Fergana Valley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46600" y="304920"/>
            <a:ext cx="88264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5 - Fergana Valley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Uzbekistan 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87.7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arly 88 million gallons of oil spilled from an oil well in Fergana Valley, one of Uzbekistans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st active energy and oil-refining areas. While the spill didn’t get much press at the 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the largest inland spill ever reported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ground absorbed this spill, leaving nothing for cleaning crews to tack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AtlanticEmpress_500_0510-lg.jpg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745360" y="624852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HEIN HINRIC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28600" y="304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Atlantic Empress,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28600" y="609480"/>
            <a:ext cx="8679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4 - Atlantic Empress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Trinidad and Tobago, West Indies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88.3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July 1979, the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egean Captain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the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tlantic Empres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two full supertankers, colli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f the coast of Tobago in the Caribbean Sea, precipitating the largest ship-sourced oil sp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history.  Both vessels began to leak their crude oil and caught fire. The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tlantic Em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s towed out to sea until it exploded 300 nautical miles offshore. 26 people were kil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response to the incident included firefighting efforts and the use of dispersants to t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oil that spilled over the course of the accident and then while the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tlantic Empres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wed away. Luckily, only minor shore pollution was reported on nearby is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Ixtoc1Spill_500_0510-lg.jpg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77760" y="15228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Ixtoc 1 Oil Well,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834560" y="6292800"/>
            <a:ext cx="56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JOHN HOAGLAND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62440" y="457200"/>
            <a:ext cx="88524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3 - Ixtoc 1 Oil Well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Bay of Campeche, Mexico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140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June 1979, an oil well in the Bay of Campeche collapsed after a pressure buildup spar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accidental explosion. Over the next 10 months about 140 million gallons of crude spo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o the Gulf of Mexico from the damaged oil well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order to slow down the flow of oil from the damaged well, mud, steel, iron and lead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re dropped down its shaft. Half the oil burned when it reached the surface and a 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vaporated. Dispersants were also sprayed over 1100 square miles of oil slick. Skimmer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omers were placed in the water to protect the bays and lagoons of the Barrier Is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TOilSpill_500_510-lg.jpg"/>
          <p:cNvPicPr/>
          <p:nvPr/>
        </p:nvPicPr>
        <p:blipFill>
          <a:blip r:embed="rId1"/>
          <a:stretch/>
        </p:blipFill>
        <p:spPr>
          <a:xfrm>
            <a:off x="816120" y="609480"/>
            <a:ext cx="7489800" cy="5618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06200" y="152280"/>
            <a:ext cx="4084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11 - 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M/T Haven Tanker,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606680" y="6249960"/>
            <a:ext cx="57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ROMANO CAGNONI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800px-Deepwater_Horizon_offshore_drilling_unit_on_fire_2010.jpg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107640" y="152280"/>
            <a:ext cx="33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Deepwater Horizon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616840" y="6326280"/>
            <a:ext cx="42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gvi.uscg.mil/media/main.php?g2_itemId=8362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50200" y="457200"/>
            <a:ext cx="894816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2 - Deepwater Horizon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Gulf of Mexico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206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pril, 20, 2010, the Deepwater Horizon drilling rig exploded due to a methane gas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m the well, immediately killing 11 and injuring 17 platform workers. The vessel burn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most two days and sank. The open well continued to leak oil into the Gulf until July 15, 2010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 of August 2010, the clean up efforts are still underway. Approximately 75% of the oi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naccounted for. By July 30, more than 1.8 million gallons of dispersant were released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Gulf. By June 28, BP removed 890,00 barrels of oil liquid and burned about 3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rrels of oil. It is believed a large amount of the missing oil is lingering in subsurface layer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Gu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lean up effort will continue for many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ulfWarOilSpill_500_0510-lg.jpg"/>
          <p:cNvPicPr/>
          <p:nvPr/>
        </p:nvPicPr>
        <p:blipFill>
          <a:blip r:embed="rId1"/>
          <a:stretch/>
        </p:blipFill>
        <p:spPr>
          <a:xfrm>
            <a:off x="762120" y="628560"/>
            <a:ext cx="7391160" cy="5543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46520" y="15228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1 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- Gulf War,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155240" y="6248520"/>
            <a:ext cx="652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PER-ANDERS PETTERSSON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344160" y="685800"/>
            <a:ext cx="8703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1 - Gulf War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Kuwait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240 to 336 mill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 Iraqi forces retreated from Kuwait during the first Gulf War, they opened the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 oil wells and pipelines in a bid to slow American troops. The result was the largest oil sp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tory has seen, spanning an area just larger than the size of the island of Hawaii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alition forces managed to seal off some of the open pipelines using smart bombs, b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st recovery efforts had to wait until after the war. Together with vacuum trucks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8.8 million gallons of oil was recovered from the Gu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44880" y="533520"/>
            <a:ext cx="87591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11 - M/T Haven Tanker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Genoa, Italy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42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ill-maintained tanker exploded and later sunk off the coast of Italy.  The accident k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people. The Italians attempted to tow the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Haven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shore, but failed, and the 820 ft-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essel sunk off the coast of Genoa. Today it is believed to be the largest shipwreck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ld and is a popular tourist destination for divers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mediately after the incident, Italian authorities scrambled to fight the fire and control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read of the spillage using 6 miles of inflatable barriers that were submerged below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surface around the vessel. The rest of the surface oil was sucked up using vacuu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OdysseyOilSpill_500_0510-lg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673640" y="6172200"/>
            <a:ext cx="57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PAUL EDMONDSON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28600" y="1951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10 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- Odyssey Oil Spill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67840" y="380880"/>
            <a:ext cx="87577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10 - Odyssey Oil Spill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700 nautical miles off the coast of Nova Scotia, Canada 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43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November 1988 the Liberian tanker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Odyssey,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virtually full to the brim with North S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ude oil, broke in two and sunk in the North Atlantic 700 miles off the coast of Nova Scot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also caught fire as it sunk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cause the incident took place so far from the coastline, the oil was expected to dissip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turally and no clean up response was condu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mocoCadizSpilla_500_0510-lg.jpg"/>
          <p:cNvPicPr/>
          <p:nvPr/>
        </p:nvPicPr>
        <p:blipFill>
          <a:blip r:embed="rId1"/>
          <a:stretch/>
        </p:blipFill>
        <p:spPr>
          <a:xfrm>
            <a:off x="824040" y="609480"/>
            <a:ext cx="7329240" cy="5497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457280" y="62452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JEAN-PIERRE PREVEL/AFP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37880" y="133200"/>
            <a:ext cx="26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Amoco Cadiz,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41280" y="380880"/>
            <a:ext cx="9212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9 - Amoco Cadiz,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Off Brittany, France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68.7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tanker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moco Cadiz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ran aground off the coast of Brittany after its steering failed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re storm. Its entire cargo of 246,000 tons of light crude oil was dumped into the ro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s of the English Channel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eanup efforts were foiled by strong winds and heavy seas and less than 3300 to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persants were used. Within a month of the spill, 200 miles of the French shorelin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taminated with oil, which had the grim consequence of killing off more marine life 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y other oil spill at the time. Vacuum trucks and agricultural vacuum units were used to suck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me of the oil, although a lot of it was simply removed by h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astillodeBellver_500_0510-lg.jpg"/>
          <p:cNvPicPr/>
          <p:nvPr/>
        </p:nvPicPr>
        <p:blipFill>
          <a:blip r:embed="rId1"/>
          <a:stretch/>
        </p:blipFill>
        <p:spPr>
          <a:xfrm>
            <a:off x="793800" y="685800"/>
            <a:ext cx="7359480" cy="5519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984680" y="6205680"/>
            <a:ext cx="55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 CREDIT: (PHOTO BY MARTIN HARVEY/GETTY IM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76320" y="228600"/>
            <a:ext cx="321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Berlin Sans FB Demi"/>
              </a:rPr>
              <a:t> - Castillo de Bellver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421920" y="380880"/>
            <a:ext cx="85795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8 - Castillo de Bellver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Loca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Off Saldanha Bay, South Africa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llon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78.5 million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How It Happene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Castillo de Bellve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caught fire about 70 miles northwest of Capetown, South Africa,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ugust 6, 1983. The blazing tanker was abandoned and drifted offshore until it event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ke in half. The stern capsized and sank into the deep ocean, with some  110,000 t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il remaining in its tanks. The bow section was sunk in a controlled explosion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Cleanu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eanup was minimal. There was some dispersant spraying, but the 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equences were small. About 1500 gannets gathered on a nearby island, were oil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e impact on local fish stocks was min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3:59:00Z</dcterms:created>
  <dc:creator>Sage Lichtenwalner</dc:creator>
  <dc:description/>
  <dc:language>en-US</dc:language>
  <cp:lastModifiedBy>Carrie Ferraro</cp:lastModifiedBy>
  <dcterms:modified xsi:type="dcterms:W3CDTF">2010-08-31T20:00:54Z</dcterms:modified>
  <cp:revision>99</cp:revision>
  <dc:subject/>
  <dc:title>PowerPoint Presentation</dc:title>
</cp:coreProperties>
</file>